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03B-E5D7-49EF-9633-F57C51C8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D36-690C-42D0-B0E4-C6D05DC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A04-9BC1-4A79-85CA-C5F38B35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495-4263-4673-B2D7-9A06FCD4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1A5-1E3A-4268-B8F5-F20A90C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745-9F18-4245-AE2B-43E5098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92E-BABA-45F7-907B-E7ACA449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47E-72E3-473F-8483-EAD6352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38E-8455-4C7D-A370-1B5B13F4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58A-9413-4F66-9A04-7A2013F7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055-73BA-4781-81F5-0612E6B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668-2B30-4EB1-9A1E-1E56B68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1F2-5E84-4A00-A41C-EF3790CE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404640"/>
          <a:ext cx="6096240" cy="6072120"/>
        </p:xfrm>
        <a:graphic>
          <a:graphicData uri="http://schemas.openxmlformats.org/drawingml/2006/table">
            <a:tbl>
              <a:tblPr/>
              <a:tblGrid>
                <a:gridCol w="244440"/>
                <a:gridCol w="243000"/>
                <a:gridCol w="244440"/>
                <a:gridCol w="243000"/>
                <a:gridCol w="244440"/>
                <a:gridCol w="244440"/>
                <a:gridCol w="243000"/>
                <a:gridCol w="244440"/>
                <a:gridCol w="243000"/>
                <a:gridCol w="244440"/>
                <a:gridCol w="244440"/>
                <a:gridCol w="242640"/>
                <a:gridCol w="244800"/>
                <a:gridCol w="242640"/>
                <a:gridCol w="244440"/>
                <a:gridCol w="244440"/>
                <a:gridCol w="243000"/>
                <a:gridCol w="244440"/>
                <a:gridCol w="243000"/>
                <a:gridCol w="244440"/>
                <a:gridCol w="244440"/>
                <a:gridCol w="243000"/>
                <a:gridCol w="244440"/>
                <a:gridCol w="243000"/>
                <a:gridCol w="244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7640" y="425520"/>
            <a:ext cx="41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15 PALABRAS QUE LLEVEN LAS LETRAS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907920"/>
          <a:ext cx="4321080" cy="5616360"/>
        </p:xfrm>
        <a:graphic>
          <a:graphicData uri="http://schemas.openxmlformats.org/drawingml/2006/table">
            <a:tbl>
              <a:tblPr/>
              <a:tblGrid>
                <a:gridCol w="1440360"/>
                <a:gridCol w="1440000"/>
                <a:gridCol w="144072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cópt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d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ec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40200" y="352440"/>
            <a:ext cx="3908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tantino tiene puercos y necesita hacer un chiquero, el hizo su chiquero de 25 m cuadrados. ¿Si en cada metro cuadrado hay un puerco, Cuántos puercos tiene en total?_____________ Dibuja el chiquero de Constantino. Cuánto alambre necesitará Constantino para hacer su chiquero si quiere poner una cerca con 4 vueltas de alambre.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 el metro de alambre cuesta $13 pesos, cuánto dinero necesi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alcancía tiene 4 billetes de $200 pesos, cuanto dinero le sobra.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tantino venció 10 puercos en $1260 pesos, cuánto dinero ganó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liza todas las operaciones en esta hoja y las tablas de variación proporcional que necesi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39:34Z</dcterms:created>
  <dc:creator>Usuario</dc:creator>
  <dc:description/>
  <dc:language>en-US</dc:language>
  <cp:lastModifiedBy>Usuario</cp:lastModifiedBy>
  <dcterms:modified xsi:type="dcterms:W3CDTF">2008-06-06T14:44:08Z</dcterms:modified>
  <cp:revision>3</cp:revision>
  <dc:subject/>
  <dc:title>Diapositiva 1</dc:title>
</cp:coreProperties>
</file>